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5D0-F074-46AA-BF43-258AEA09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68E-285D-45AD-8D2A-8B6036AE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2EF-5E72-479E-99E8-0B6F42D2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B3A-7DD8-4737-81D2-A7458AC2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016-1BDC-465A-9828-A5CF23AD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30E-DEE8-4323-8AAD-D9077D83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CE3-8077-41F0-AB32-86DA9CB9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EFA-4B01-4351-BB6B-F911D715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972-4E1D-4950-BFAF-AF387F11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8B7-DC99-4BE4-8027-CCF9ADB5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414-9A49-4F56-AE99-CF2E0708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BD4-98BC-4710-991A-BD6EDD04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B55A-27E8-4EC0-BAE3-BA314D112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1752" t="0" r="0" b="-2229"/>
          <a:stretch/>
        </p:blipFill>
        <p:spPr>
          <a:xfrm rot="18602400">
            <a:off x="2746800" y="1092600"/>
            <a:ext cx="3379680" cy="3299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6920" y="2133720"/>
            <a:ext cx="165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3645000"/>
            <a:ext cx="180000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98920" y="3284640"/>
            <a:ext cx="3528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-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4720" y="5157720"/>
            <a:ext cx="2735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of the VT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5805360"/>
            <a:ext cx="3600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uational awareness in a VT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5878440"/>
            <a:ext cx="381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with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3440" y="4581360"/>
            <a:ext cx="2590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4510080"/>
            <a:ext cx="2087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T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5280" y="5229360"/>
            <a:ext cx="3529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utical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3440" y="3860640"/>
            <a:ext cx="3743280" cy="2016360"/>
          </a:xfrm>
          <a:prstGeom prst="ellipse">
            <a:avLst/>
          </a:prstGeom>
          <a:solidFill>
            <a:srgbClr val="c0c0c0">
              <a:alpha val="47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TS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, TOS, N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6" idx="1"/>
            <a:endCxn id="44" idx="1"/>
          </p:cNvCxnSpPr>
          <p:nvPr/>
        </p:nvCxnSpPr>
        <p:spPr>
          <a:xfrm flipH="1" rot="10800000">
            <a:off x="1042920" y="3607920"/>
            <a:ext cx="1656360" cy="2485440"/>
          </a:xfrm>
          <a:prstGeom prst="bentConnector3">
            <a:avLst>
              <a:gd name="adj1" fmla="val -14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1"/>
            <a:endCxn id="44" idx="1"/>
          </p:cNvCxnSpPr>
          <p:nvPr/>
        </p:nvCxnSpPr>
        <p:spPr>
          <a:xfrm flipH="1" rot="10800000">
            <a:off x="1044360" y="3607920"/>
            <a:ext cx="1654560" cy="1801440"/>
          </a:xfrm>
          <a:prstGeom prst="bentConnector3">
            <a:avLst>
              <a:gd name="adj1" fmla="val -1399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" name=""/>
          <p:cNvCxnSpPr>
            <a:stCxn id="49" idx="1"/>
            <a:endCxn id="44" idx="1"/>
          </p:cNvCxnSpPr>
          <p:nvPr/>
        </p:nvCxnSpPr>
        <p:spPr>
          <a:xfrm flipH="1" rot="10800000">
            <a:off x="1042920" y="3608280"/>
            <a:ext cx="1656360" cy="1153800"/>
          </a:xfrm>
          <a:prstGeom prst="bentConnector3">
            <a:avLst>
              <a:gd name="adj1" fmla="val -14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7" idx="3"/>
            <a:endCxn id="44" idx="3"/>
          </p:cNvCxnSpPr>
          <p:nvPr/>
        </p:nvCxnSpPr>
        <p:spPr>
          <a:xfrm flipH="1" flipV="1">
            <a:off x="6227640" y="3608280"/>
            <a:ext cx="2377080" cy="252216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0" idx="3"/>
            <a:endCxn id="44" idx="3"/>
          </p:cNvCxnSpPr>
          <p:nvPr/>
        </p:nvCxnSpPr>
        <p:spPr>
          <a:xfrm flipH="1" flipV="1">
            <a:off x="6227640" y="3608280"/>
            <a:ext cx="2377080" cy="187308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3"/>
            <a:endCxn id="44" idx="3"/>
          </p:cNvCxnSpPr>
          <p:nvPr/>
        </p:nvCxnSpPr>
        <p:spPr>
          <a:xfrm flipH="1" flipV="1">
            <a:off x="6227640" y="3608280"/>
            <a:ext cx="2377080" cy="122508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55640" y="62064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123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LOT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700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2200" y="2276640"/>
            <a:ext cx="128592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0560" y="33192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53440" y="16984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YDROGRAP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27664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1800" y="1123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V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3080" y="5461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HIP OW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57800" y="25884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S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1872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1440" y="1144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32360" y="1872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IR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I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61080" y="277956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EORO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26920" y="476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6920" y="540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826920" y="6093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8675280" y="547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8675280" y="6130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8675280" y="4832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9810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907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AS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16720" y="141300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1484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RD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6922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SHE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6922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2708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3:21:52Z</dcterms:created>
  <dc:creator>SonninenS</dc:creator>
  <dc:description/>
  <dc:language>en-US</dc:language>
  <cp:lastModifiedBy>SonninenS</cp:lastModifiedBy>
  <dcterms:modified xsi:type="dcterms:W3CDTF">2008-03-06T10:10:47Z</dcterms:modified>
  <cp:revision>17</cp:revision>
  <dc:subject/>
  <dc:title>Dia 1</dc:title>
</cp:coreProperties>
</file>